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explode.wav" ContentType="audio/x-wav"/>
  <Override PartName="/ppt/media/camera.wav" ContentType="audio/x-wav"/>
  <Override PartName="/ppt/media/chimes.wav" ContentType="audio/x-wav"/>
  <Override PartName="/ppt/media/glass.wav" ContentType="audio/x-wav"/>
  <Override PartName="/ppt/media/type.wav" ContentType="audio/x-wav"/>
  <Override PartName="/ppt/media/whoosh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466-2DF2-4DB3-862A-B80A6944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186-2954-4C46-8D73-DBB75917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E79-5A7A-4AAD-9B07-23638B74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C69-ADF8-441E-90DC-84D44ECF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1FB7-155C-442A-A25F-398D6E7F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9079-331F-4A48-BFF2-BA7EC433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7E13-6101-4F7F-B018-C6CD3173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46DB-18AD-47F9-8C3D-4CB17D83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A099-A57C-45A0-8240-7C05E738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7BFF-37D5-4236-8C16-4504D19A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C3F8-5CDF-4779-9B6E-3137AED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DFC-5695-450B-A183-5FBB33DF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A59B-0B68-45D7-B1E5-FEA30B69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BE85-6486-48D9-80F2-4FED909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41D2-43DB-49B6-B099-1290E005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18C7-7282-4CAD-9DDE-B8FD92C9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313B-7D25-4E5E-901D-0156928D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DBB-12A6-4A31-A5BE-C9CBED5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C94-109E-4608-B3F1-080839E2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AF6-CC32-41EF-B800-9BEDA110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9F8-183E-4776-8F76-9505F0B8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24F-3D3B-440E-8604-4EB4756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4CF-9D1B-4E02-9A3D-4AAC9579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D70-6438-4470-A021-CA9622C4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2788-2F29-402E-BD00-EBA1AE54052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A819-4707-479A-80D3-7BC2F07FFAA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las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glas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glass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glass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glass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133720" y="1676520"/>
            <a:ext cx="5638680" cy="3352680"/>
          </a:xfrm>
          <a:prstGeom prst="irregularSeal2">
            <a:avLst/>
          </a:prstGeom>
          <a:gradFill rotWithShape="0">
            <a:gsLst>
              <a:gs pos="0">
                <a:srgbClr val="00007a"/>
              </a:gs>
              <a:gs pos="100000">
                <a:srgbClr val="7474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2895480" y="2819520"/>
            <a:ext cx="337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Kristen ITC"/>
              </a:rPr>
              <a:t>COLOR TOO CONTRAST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057400" y="4038480"/>
            <a:ext cx="685800" cy="1447920"/>
          </a:xfrm>
          <a:custGeom>
            <a:avLst/>
            <a:gdLst>
              <a:gd name="textAreaLeft" fmla="*/ 91800 w 685800"/>
              <a:gd name="textAreaRight" fmla="*/ 594000 w 6858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676520" y="6105600"/>
            <a:ext cx="2743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huheiuwhuiewhuihewuihied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05" name="AutoShape 7"/>
          <p:cNvSpPr/>
          <p:nvPr/>
        </p:nvSpPr>
        <p:spPr>
          <a:xfrm flipH="1">
            <a:off x="6400080" y="4038480"/>
            <a:ext cx="609480" cy="1447920"/>
          </a:xfrm>
          <a:custGeom>
            <a:avLst/>
            <a:gdLst>
              <a:gd name="textAreaLeft" fmla="*/ 81360 w 609480"/>
              <a:gd name="textAreaRight" fmla="*/ 528120 w 60948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AutoShape 9"/>
          <p:cNvSpPr/>
          <p:nvPr/>
        </p:nvSpPr>
        <p:spPr>
          <a:xfrm flipV="1">
            <a:off x="4724280" y="456840"/>
            <a:ext cx="685800" cy="1447920"/>
          </a:xfrm>
          <a:custGeom>
            <a:avLst/>
            <a:gdLst>
              <a:gd name="textAreaLeft" fmla="*/ 91800 w 685800"/>
              <a:gd name="textAreaRight" fmla="*/ 594000 w 6858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AutoShape 10"/>
          <p:cNvSpPr/>
          <p:nvPr/>
        </p:nvSpPr>
        <p:spPr>
          <a:xfrm flipH="1" flipV="1">
            <a:off x="3199680" y="914400"/>
            <a:ext cx="762120" cy="13716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1143000" y="914400"/>
            <a:ext cx="18381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09" name="WordArt 12"/>
          <p:cNvSpPr txBox="1"/>
          <p:nvPr/>
        </p:nvSpPr>
        <p:spPr>
          <a:xfrm>
            <a:off x="5638680" y="30492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hhbwiwdiwdin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0" name="WordArt 13"/>
          <p:cNvSpPr txBox="1"/>
          <p:nvPr/>
        </p:nvSpPr>
        <p:spPr>
          <a:xfrm>
            <a:off x="5638680" y="91440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1" name="WordArt 14"/>
          <p:cNvSpPr txBox="1"/>
          <p:nvPr/>
        </p:nvSpPr>
        <p:spPr>
          <a:xfrm>
            <a:off x="7534440" y="3733920"/>
            <a:ext cx="160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njefhdewhiew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2" name="WordArt 15"/>
          <p:cNvSpPr txBox="1"/>
          <p:nvPr/>
        </p:nvSpPr>
        <p:spPr>
          <a:xfrm>
            <a:off x="5410080" y="5486400"/>
            <a:ext cx="2057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opjifejioewjf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3" name="WordArt 17"/>
          <p:cNvSpPr txBox="1"/>
          <p:nvPr/>
        </p:nvSpPr>
        <p:spPr>
          <a:xfrm>
            <a:off x="5410080" y="6019920"/>
            <a:ext cx="1905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mimpi ngeri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4" name="WordArt 18"/>
          <p:cNvSpPr txBox="1"/>
          <p:nvPr/>
        </p:nvSpPr>
        <p:spPr>
          <a:xfrm>
            <a:off x="7534440" y="3276720"/>
            <a:ext cx="160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5" name="AutoShape 20"/>
          <p:cNvSpPr/>
          <p:nvPr/>
        </p:nvSpPr>
        <p:spPr>
          <a:xfrm flipH="1">
            <a:off x="608760" y="2362320"/>
            <a:ext cx="1676520" cy="609480"/>
          </a:xfrm>
          <a:custGeom>
            <a:avLst/>
            <a:gdLst>
              <a:gd name="textAreaLeft" fmla="*/ 293040 w 1676520"/>
              <a:gd name="textAreaRight" fmla="*/ 1215360 w 1676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980891"/>
                <a:lnTo>
                  <a:pt x="21287" y="15450"/>
                </a:lnTo>
                <a:lnTo>
                  <a:pt x="17280" y="21600"/>
                </a:lnTo>
                <a:lnTo>
                  <a:pt x="12647" y="15450"/>
                </a:lnTo>
                <a:lnTo>
                  <a:pt x="14807" y="15450"/>
                </a:lnTo>
                <a:arcTo wR="7560" hR="21600" stAng="-2419109" swAng="-2623457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7010280" y="2590920"/>
            <a:ext cx="1752840" cy="533160"/>
          </a:xfrm>
          <a:custGeom>
            <a:avLst/>
            <a:gdLst>
              <a:gd name="textAreaLeft" fmla="*/ 306720 w 1752840"/>
              <a:gd name="textAreaRight" fmla="*/ 1270800 w 17528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WordArt 23"/>
          <p:cNvSpPr txBox="1"/>
          <p:nvPr/>
        </p:nvSpPr>
        <p:spPr>
          <a:xfrm>
            <a:off x="1143000" y="304920"/>
            <a:ext cx="160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8" name="WordArt 24"/>
          <p:cNvSpPr txBox="1"/>
          <p:nvPr/>
        </p:nvSpPr>
        <p:spPr>
          <a:xfrm>
            <a:off x="0" y="3733920"/>
            <a:ext cx="18381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jiojfioejioefj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9" name="WordArt 27"/>
          <p:cNvSpPr txBox="1"/>
          <p:nvPr/>
        </p:nvSpPr>
        <p:spPr>
          <a:xfrm>
            <a:off x="1600200" y="5486400"/>
            <a:ext cx="28954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20" name="WordArt 28"/>
          <p:cNvSpPr txBox="1"/>
          <p:nvPr/>
        </p:nvSpPr>
        <p:spPr>
          <a:xfrm>
            <a:off x="0" y="31240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2438280" y="2590920"/>
            <a:ext cx="419112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eaeaea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ord formation not suitabl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eaeaea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380880" y="457200"/>
            <a:ext cx="2743200" cy="1523880"/>
          </a:xfrm>
          <a:prstGeom prst="cloudCallout">
            <a:avLst>
              <a:gd name="adj1" fmla="val 45949"/>
              <a:gd name="adj2" fmla="val 7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990720" y="762120"/>
            <a:ext cx="16761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Change to next pag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3352680" y="304920"/>
            <a:ext cx="2743200" cy="1523880"/>
          </a:xfrm>
          <a:prstGeom prst="cloudCallout">
            <a:avLst>
              <a:gd name="adj1" fmla="val -2833"/>
              <a:gd name="adj2" fmla="val 90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3733920" y="685800"/>
            <a:ext cx="198108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With slow col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6400800" y="609480"/>
            <a:ext cx="2514600" cy="1524240"/>
          </a:xfrm>
          <a:prstGeom prst="cloudCallout">
            <a:avLst>
              <a:gd name="adj1" fmla="val -66097"/>
              <a:gd name="adj2" fmla="val 71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6934320" y="762120"/>
            <a:ext cx="167616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Made me heada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304920" y="4800600"/>
            <a:ext cx="2743200" cy="1523880"/>
          </a:xfrm>
          <a:prstGeom prst="cloudCallout">
            <a:avLst>
              <a:gd name="adj1" fmla="val 35245"/>
              <a:gd name="adj2" fmla="val -91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838080" y="51814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3200400" y="4800600"/>
            <a:ext cx="2743200" cy="1523880"/>
          </a:xfrm>
          <a:prstGeom prst="cloudCallout">
            <a:avLst>
              <a:gd name="adj1" fmla="val -6481"/>
              <a:gd name="adj2" fmla="val -93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3581280" y="5105520"/>
            <a:ext cx="2210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2" name="AutoShape 19"/>
          <p:cNvSpPr/>
          <p:nvPr/>
        </p:nvSpPr>
        <p:spPr>
          <a:xfrm>
            <a:off x="6095880" y="4724280"/>
            <a:ext cx="2743200" cy="1524240"/>
          </a:xfrm>
          <a:prstGeom prst="cloudCallout">
            <a:avLst>
              <a:gd name="adj1" fmla="val -41782"/>
              <a:gd name="adj2" fmla="val -87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6400800" y="5029200"/>
            <a:ext cx="2209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-76320" y="-514440"/>
            <a:ext cx="9498240" cy="75247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5935320" y="65530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LLAS March 16, 2013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718920" y="773280"/>
            <a:ext cx="79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This is not slide, we called it picture </a:t>
            </a:r>
            <a:r>
              <a:rPr b="0" lang="en-US" sz="44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18:35:07Z</dcterms:created>
  <dc:creator>smka</dc:creator>
  <dc:description/>
  <dc:language>en-US</dc:language>
  <cp:lastModifiedBy>se7en</cp:lastModifiedBy>
  <dcterms:modified xsi:type="dcterms:W3CDTF">2013-03-30T05:34:23Z</dcterms:modified>
  <cp:revision>62</cp:revision>
  <dc:subject/>
  <dc:title>PowerPoint Presentation</dc:title>
</cp:coreProperties>
</file>